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7BD-3BDE-422E-9C8D-E4F14039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FED-F92F-4D0B-8062-5B6EBD96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CE7-A1D9-449B-B736-85AA84B2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88A-F5D4-40F2-8741-CBA0AE67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21B-B3AF-46A7-843F-757B05BE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810-6A6D-4B86-BDCD-E7F0A3C8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0867-5571-4C6D-8962-388278B2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0A8A-55D9-484B-A2C3-F3BEC279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488-8D6A-4A8C-8FBE-6D891EDA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12F-2E34-42F4-9AA1-9898D11F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4ED-A446-4EC8-8460-5E86B8A8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CEA7-C0A5-4156-BD0C-692405CD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5F4E-EB26-4807-BE50-F90C7A4BF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3"/>
          <p:cNvSpPr/>
          <p:nvPr/>
        </p:nvSpPr>
        <p:spPr>
          <a:xfrm>
            <a:off x="0" y="0"/>
            <a:ext cx="571500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 2-23 &amp; 24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No Homewor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762120"/>
            <a:ext cx="3733920" cy="366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Focus tod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pen up your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x Weeks Focus Word Document and Prepare for the test—INK P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. 11 &amp;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. 17 &amp;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. 19 &amp;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. 25 &amp;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. 1 &amp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. 13 &amp;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. 15 &amp;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www.perlgurl.org/archives/blogpics/AfricaFieldNotes/WebGiraffe02.jpg"/>
          <p:cNvPicPr/>
          <p:nvPr/>
        </p:nvPicPr>
        <p:blipFill>
          <a:blip r:embed="rId2"/>
          <a:srcRect l="0" t="0" r="0" b="4913"/>
          <a:stretch/>
        </p:blipFill>
        <p:spPr>
          <a:xfrm>
            <a:off x="3809880" y="1600200"/>
            <a:ext cx="552924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Cloud Callout 6"/>
          <p:cNvSpPr/>
          <p:nvPr/>
        </p:nvSpPr>
        <p:spPr>
          <a:xfrm>
            <a:off x="7162920" y="0"/>
            <a:ext cx="1981080" cy="1908000"/>
          </a:xfrm>
          <a:prstGeom prst="cloudCallout">
            <a:avLst>
              <a:gd name="adj1" fmla="val -46078"/>
              <a:gd name="adj2" fmla="val 972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7391520" y="5335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for Focus Te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22:17:49Z</dcterms:created>
  <dc:creator>poweruser</dc:creator>
  <dc:description/>
  <dc:language>en-US</dc:language>
  <cp:lastModifiedBy>poweruser</cp:lastModifiedBy>
  <dcterms:modified xsi:type="dcterms:W3CDTF">2012-02-23T13:47:37Z</dcterms:modified>
  <cp:revision>132</cp:revision>
  <dc:subject/>
  <dc:title>Slide 1</dc:title>
</cp:coreProperties>
</file>